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3F5-5FCA-44B6-9C39-CB9C5879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C7C-C1E8-44D5-9181-0C1FD8CA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AF9-B536-4B12-BA30-570F588B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8E8-D157-4E5D-9CDC-A63AAF6F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F9B5-CB0B-4502-B45D-50F05E6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90A-078F-4897-B9C5-CF20FD7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DA1E-C570-4DA2-A3DD-06E2C87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373-DB4B-447C-93E3-E25C256E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FE71-F818-4AD7-B6B6-B529F34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176-5051-4A35-BAEB-AAD823D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8F96-C1B8-4E39-B6B6-D27B770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E1B-4190-40D6-B33B-3A1F2A9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FDE1-97D2-4D4B-B76B-56208E9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15C9-0296-4F06-87D7-3F5CF84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DA94-6DFA-4C53-BDE5-F9F4B763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6F3-8B92-494F-9935-4D164805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E29-8F3C-4109-BD13-AC2F7B1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E18-EDC9-41DB-8750-5C7CC2F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967-E76A-4339-97FC-CDCFFA0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FEA-C9FC-413A-9493-BDCD927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C64-2DFA-43B3-B8E2-8FA749D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04F-A9D6-4841-A973-622D9B9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72A-F2D3-4DBA-9A65-72A1A34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D0F-A385-4FFF-ABF5-556FE82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3934-C728-4AD8-8425-BFF7FCF86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94D6-D87F-4DB5-BE48-C1FFDC1B29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773360"/>
            <a:ext cx="793620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Результаты ГИА (ЕГЭ)  по литературе - 2019</a:t>
            </a:r>
            <a:br>
              <a:rPr sz="4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Орловской обла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280" y="4581360"/>
            <a:ext cx="58323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рова Валерия Яковле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п.н., ведущий эксперт, зам.председателя ПК ЕГЭ и ОГЭ по литерату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bruslit@yandex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едочеты при выполнении заданий повышенного уровн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статочное владение навыками анализа художественного текста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мение дать прямой связный ответ на вопрос, опираясь на авторскую позицию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статочная ориентация в пространстве произведений, что ведет к неубедительной аргументации ответов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аданиях, требующих привлечения литературного контекста, наблюдается  наличие неудачных или поверхностных сопоставлений, искажение трактовки вопроса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бое владение механизмами сравнения, сопоставления, классификации, ранжирования объектов по одному или нескольким предложенным основаниям, критериям, неумение самостоятельно определять основания для сопостав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едочеты при выполнении заданий высокого уровн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453960" y="17794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мение осмыслить авторскую позицию и выявить средства ее художественного вопло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е привлечение текста художественного произведения, «приблизительный» пересказ, отсутствие необходимых комментариев;  фактические ошибки, неточная цита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льное использование литературоведческих терми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ушения в логике и композиции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речевых ошибо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коменд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1196640"/>
            <a:ext cx="83059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омендовать факультатив для учащихся, готовящихся к сдаче экзамена, использовать спецкурсы «Подготовка к ЕГЭ по литературе» и «Искусство анализа художественного текста» (программы размещены на сайте http://оиуу.рф/ );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оводителям МО включить в план работы анализ результатов экзамена в 2019 год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атизировать повторение истории и  теории литературы, стремиться к расширению понятийного аппарата учащихся, развитию и совершенствованию их аналитических навыков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делять должное внимание на уроках литературы обсуждению вопросов проблемного характе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рмировать у учащихся умения определять авторскую позицию, выражать собственную точку зрения и находить соответствующую аргументацию в текс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активнее включать в учебную деятельность элементы сопоставительного анализа художественных произведений, расширенно привлекать в работе литературный контекст; формировать умения  давать содержательное обоснование для срав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ое внимание уделять повторению материала по литературе за 5-9 классы, который входит в содержание кодифик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ить выпускников, сдающих ЕГЭ по литературе, рекомендательным списком книг, учебников и пособий  для подготовки к экзаме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781000"/>
            <a:ext cx="800748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вайте Ваши профессиональные компетенци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аем успехов на ЕГЭ по литературе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24000" y="1844640"/>
          <a:ext cx="8569080" cy="3622680"/>
        </p:xfrm>
        <a:graphic>
          <a:graphicData uri="http://schemas.openxmlformats.org/drawingml/2006/table">
            <a:tbl>
              <a:tblPr/>
              <a:tblGrid>
                <a:gridCol w="1036440"/>
                <a:gridCol w="1862280"/>
                <a:gridCol w="988920"/>
                <a:gridCol w="1889280"/>
                <a:gridCol w="901440"/>
                <a:gridCol w="1890720"/>
              </a:tblGrid>
              <a:tr h="96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че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% от общего числа участ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че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% от общего числа участ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че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% от общего числа участ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9,5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2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Cambria"/>
                          <a:ea typeface="Calibri"/>
                        </a:rPr>
                        <a:t>8,6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оличество участников ЕГЭ по литератур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26920" y="549360"/>
          <a:ext cx="7921800" cy="5549760"/>
        </p:xfrm>
        <a:graphic>
          <a:graphicData uri="http://schemas.openxmlformats.org/drawingml/2006/table">
            <a:tbl>
              <a:tblPr/>
              <a:tblGrid>
                <a:gridCol w="5391360"/>
                <a:gridCol w="25304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участников ЕГЭ по литерату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4f9ee"/>
                          </a:solidFill>
                          <a:latin typeface="Times New Roman"/>
                          <a:ea typeface="Times New Roman"/>
                        </a:rPr>
                        <a:t>3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ников текущего года, обучающихся по образовательным программам среднего общего 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4f9ee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хся профессиональных образовательных организац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4f9ee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ников прошлых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4f9ee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ов с ограниченными возможностями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4f9ee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971640" y="1844640"/>
          <a:ext cx="7416720" cy="3470400"/>
        </p:xfrm>
        <a:graphic>
          <a:graphicData uri="http://schemas.openxmlformats.org/drawingml/2006/table">
            <a:tbl>
              <a:tblPr/>
              <a:tblGrid>
                <a:gridCol w="5048280"/>
                <a:gridCol w="23684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участников ЕГЭ по литерату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ники средних общеобразовательных шк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ники гимназий, лицее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ники С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900000" y="1844640"/>
          <a:ext cx="7704360" cy="4105440"/>
        </p:xfrm>
        <a:graphic>
          <a:graphicData uri="http://schemas.openxmlformats.org/drawingml/2006/table">
            <a:tbl>
              <a:tblPr/>
              <a:tblGrid>
                <a:gridCol w="3314880"/>
                <a:gridCol w="1773000"/>
                <a:gridCol w="1309680"/>
                <a:gridCol w="1306800"/>
              </a:tblGrid>
              <a:tr h="684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Результаты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не преодолели минимального ба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57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63,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получили от 81 до 100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получили 100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b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Результаты ЕГЭ по литератур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зменения, внесенные в экзаменационную модель ЕГЭ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о литературе в 2018 году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5676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овершенствованы и сближены с ОГЭ критерии оценивания развёрнутых ответ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илен контроль за качеством речи экзаменуемого (речь оценивается в ответах на все задан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точнены требования к выполнению сопоставительных заданий 9 и 16: в инструкциях к ним нет требования давать обоснование выбора примера для сопоставления, что отражено в критериях их оцени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ведено четвёртое задание в часть 2 (темы сочинений варьируются с учётом жанрово-родового разнообразия литературного материала и литературной эпох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ксимальный балл за всю работу увеличен с 42 до 58 балл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359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оцент выполнения заданий ЕГЭ по литературе в 2019 год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11028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зовый уровень – 88,2% ( 2018 -75,2%,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2017- 78,62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енный уровень –  71,2% (2018 - 35,2%,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2017 - 81,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й уровень – 60,4% (2018 - 32,3%,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2017 - 54,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611280" y="1628640"/>
            <a:ext cx="806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содержания текстов произведений, определяемых КИМ, в том числе наизу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м соответствовать при выполнении работы критериям ее оцени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товность работать с текстами, не указанными в КИМ (прежде всего, лирически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законов поэтической речи и умение работать с лирическим текстом в цел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анализировать и интерпретировать художественное произведение в единстве его формы и содержа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формированность навыков сопоставительного анализа литературных произве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ык написания небольших творческих работ по предлагаемой проблеме развернутого характе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ение речевых норм русского языка при написании развернутых отве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ий уровень сформированности метапредметных и предметных компетенций выпуск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b7"/>
                </a:solidFill>
                <a:latin typeface="Arial Black"/>
              </a:rPr>
              <a:t>Условия успешного выполнения заданий ЕГЭ по литературе:</a:t>
            </a:r>
            <a:br>
              <a:rPr sz="2900"/>
            </a:br>
            <a:endParaRPr b="1" lang="en-US" sz="29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едочеты при выполнении заданий базового уровн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8294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е знание текста произведений (в первую очередь на уровне его сюжетно-композиционных элементов и системы образ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очное владение фундаментальными теоретико-литературными понят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ности при соотнесении литературоведческих терминов и художествен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07:24:00Z</dcterms:created>
  <dc:creator>35</dc:creator>
  <dc:description/>
  <dc:language>en-US</dc:language>
  <cp:lastModifiedBy>user</cp:lastModifiedBy>
  <dcterms:modified xsi:type="dcterms:W3CDTF">2019-11-29T12:16:29Z</dcterms:modified>
  <cp:revision>43</cp:revision>
  <dc:subject/>
  <dc:title>Слайд 1</dc:title>
</cp:coreProperties>
</file>